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C50-8CF0-4F4B-B463-DDB8EF5B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DFA-AA2F-4A8C-9B35-092E406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609-F81D-468B-A3F6-5C9471C9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145-E341-4EED-93B2-50AE1C30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15A-3560-41E8-910C-86A9A7F6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476-3AA1-442A-B6EF-8D0AEA1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1B7-7834-4898-9166-EC0FA20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1A8-4895-4E6D-A731-F1B0B6EB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865-68B8-4F09-BF60-61FC591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762-400D-46D6-817C-B2D43CC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3B0-0B78-47B9-97B8-33BC498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02E-C9E4-478A-B5B8-3CA8835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513-D7B8-47F1-8EF0-D38E9BF29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t another spectacular PowerPoint by Ms. Mc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924680" cy="48006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eu is generally commonplace and the unhero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is usually the dull struggle of daily exis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the naturalist reveals qualities in their characters that are usually associated with the heroic or adventuro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acts of violence and passion lead to desperate moments and violent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at its lowest levels is not so simple as it seems to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ramic, “slice-of-life" d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"chronicle of despair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Naturalism: A Scientific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s to apply the scientific princip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ts study of human be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s are but higher-order animals “fully subject to the forces of heredi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uman beasts” studied impartially, without moralizing about their na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ry is told in third pers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rrator is detached, objective, and unsympathe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rrator does not comment on the morality or the fairness of the situations in which characters fin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der, however, is meant to empathize with the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Maintaining Dignity in Advers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305920" cy="36576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s conditioned and controlled by environment, social conditions, heredity, chance (or fate), or ins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, they have compensating humanistic values which affirm their individuality and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ir struggle for life becomes heroic and they maintain human dignity despite degrading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s faced with overwhelming and oppressive material forces that control their l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, they maintain their self-w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 Few Practiction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e Zol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 roman experimental (The Experimental Novel) (1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Crane, “The Open Boat” (18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London, “To Build a Fire” (19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h Wharto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House of Mi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n Glasgow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ren 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teinbeck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rapes of Wr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righ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ve 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40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Bo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4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 Mail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Naked and the D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4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Styro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e Down in Dark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5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l Bellow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dventures of Augie M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53)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From "The Open Boat" by Stephen C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occurs to a man that nature does not regard him as import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 she feels she would not maim the universe by disposing of hi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at first wishes to throw bricks at the te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 hates deeply the fact that there are no bricks and no temples.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Naturalistic Po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said to the universe: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ir, I exist!"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owever," replied the universe,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e fact has not created in me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nse of obligatio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Stephen Crane (189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alphaModFix amt="27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352320"/>
            <a:ext cx="8305920" cy="35053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many modern works contain naturalistic elem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ura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specifically to a literary movement that took place in America, England, and France during the late 1800’s and early 1900’s, which produced a unique type of “realistic” f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order to underst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atural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must first examin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86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m portrays life realistically without “sugarcoat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sts try to “write re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cords "the smaller details of everyday life, things that are likely to happen between lunch and supper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rtrays local color, attempting to accurately portray the customs, speech, dress, and living conditions of their chosen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jects the idealized presentations, imaginative settings, the supernatural, and the improbable plot twists of romantic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ism is essentially realism with an additional face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r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5410080" cy="1143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505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s do not have free will; external and internal forces control thei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s belief is called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determinis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 All determinists believe in the existence of the will, but the will is enslaved due to a multitude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haracters attempting to exercise free will are hamstrung by forces beyond thei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Life is an inescapable tr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’s as Marion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350532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ists view individuals as being at the mercy of biological and socioeconomic forces, where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li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ld that humans have some degree of free will that they can exercise to affect thei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s happ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, as if they were marionettes whose movements are entirely determined by forces beyond their contr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Beyond the Character’s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27672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are dominated by external or internal fo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orm, or a character lost at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 born into pov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e (f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’s child is suddenly stricken with typhoid f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Pa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st, greed, or desire for dominance or pleasure overcome rati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781680" cy="44956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influenced by emergent scientific theories of th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’s theory of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corollary, “survival of the fittes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for survival brings out the "brute within" each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is often "man against nature" or "man against himself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7200"/>
            <a:ext cx="8076960" cy="7034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different and Omnipotent Power of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3526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ure/Fate is as an indifferent force acting upon the lives of human be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ften describe the futile attempts of human beings to exercise free will in a universe that ironically reveals that free will is an illu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ce and tragedy is often th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11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Matter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deals with raw and unpleasant experiences which reduce characters to "degrading" behavior as they struggle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are mostly from the lower-middle or lower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poor, uneducated, and unsophist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 of the people working itself out in blood and [filth]” (Norr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7:51:29Z</dcterms:created>
  <dc:creator>Joe Younger</dc:creator>
  <dc:description/>
  <dc:language>en-US</dc:language>
  <cp:lastModifiedBy>Angie</cp:lastModifiedBy>
  <dcterms:modified xsi:type="dcterms:W3CDTF">2010-01-03T21:37:34Z</dcterms:modified>
  <cp:revision>42</cp:revision>
  <dc:subject/>
  <dc:title>NATURALISM </dc:title>
</cp:coreProperties>
</file>